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gif" ContentType="image/gi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18.wmf" ContentType="image/x-wmf"/>
  <Override PartName="/ppt/media/image1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45BF-0131-43A4-9D22-58B0B98A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4B5-F2F0-4C18-9613-94D83497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FEE-241F-4465-BCEC-0E0AA6E7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5EC-3907-4C78-B6C8-6938890D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DBD-685F-4FAA-AAB2-9E640FC3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674-F091-436C-BAF0-335F767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7DD-4657-40B9-936E-591C202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F4B-CB2A-4593-A0C4-F7B788A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5C2-902D-409D-A552-DFA6C51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BD3-53D4-4274-AE17-3BAC0A8D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EC9-5A3B-49F1-A258-035B5030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FE1-3240-4B0F-AC1F-E8250CAF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4E6-FCA9-45B4-8A5F-7DE88A7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EBD9-4F2B-4B53-8F2B-71563D95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" Target="slide4.xml"/><Relationship Id="rId5" Type="http://schemas.openxmlformats.org/officeDocument/2006/relationships/image" Target="../media/image1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4.xml"/><Relationship Id="rId4" Type="http://schemas.openxmlformats.org/officeDocument/2006/relationships/image" Target="../media/image3.wmf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5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slide" Target="slide74.xml"/><Relationship Id="rId3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7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13.wmf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slide" Target="slide3.xml"/><Relationship Id="rId5" Type="http://schemas.openxmlformats.org/officeDocument/2006/relationships/slide" Target="slide72.xml"/><Relationship Id="rId6" Type="http://schemas.openxmlformats.org/officeDocument/2006/relationships/image" Target="../media/image13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017262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6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7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5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238880" y="5638680"/>
            <a:ext cx="1905120" cy="1371600"/>
            <a:chOff x="7238880" y="5638680"/>
            <a:chExt cx="1905120" cy="1371600"/>
          </a:xfrm>
        </p:grpSpPr>
        <p:pic>
          <p:nvPicPr>
            <p:cNvPr id="17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86728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>
              <a:hlinkClick r:id="rId7" action="ppaction://hlinksldjump"/>
            </p:cNvPr>
            <p:cNvSpPr/>
            <p:nvPr/>
          </p:nvSpPr>
          <p:spPr>
            <a:xfrm>
              <a:off x="7238880" y="563868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7543800" y="586728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228600" y="3276720"/>
          <a:ext cx="2562120" cy="81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276720"/>
                    <a:ext cx="25621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9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0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0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2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3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3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5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5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6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5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6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7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8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29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2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94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D05092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562720" y="563868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3646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8" name="BD05091_" descr=""/>
          <p:cNvPicPr/>
          <p:nvPr/>
        </p:nvPicPr>
        <p:blipFill>
          <a:blip r:embed="rId8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59" name="j0182990" descr=""/>
          <p:cNvPicPr/>
          <p:nvPr/>
        </p:nvPicPr>
        <p:blipFill>
          <a:blip r:embed="rId9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520" y="30477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Enter Top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130271" descr=""/>
          <p:cNvPicPr/>
          <p:nvPr/>
        </p:nvPicPr>
        <p:blipFill>
          <a:blip r:embed="rId10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0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95480" y="2666880"/>
          <a:ext cx="561348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666880"/>
                    <a:ext cx="561348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32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4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26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3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3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5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6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3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8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9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0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07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09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1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1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3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36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2" action="ppaction://hlinksldjump"/>
          </p:cNvPr>
          <p:cNvSpPr/>
          <p:nvPr/>
        </p:nvSpPr>
        <p:spPr>
          <a:xfrm>
            <a:off x="19051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3" action="ppaction://hlinksldjump"/>
          </p:cNvPr>
          <p:cNvSpPr/>
          <p:nvPr/>
        </p:nvSpPr>
        <p:spPr>
          <a:xfrm>
            <a:off x="3276720" y="1447920"/>
            <a:ext cx="121896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4" action="ppaction://hlinksldjump"/>
          </p:cNvPr>
          <p:cNvSpPr/>
          <p:nvPr/>
        </p:nvSpPr>
        <p:spPr>
          <a:xfrm>
            <a:off x="48006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62485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6" action="ppaction://hlinksldjump"/>
          </p:cNvPr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9560" y="2057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ick on a category for he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>
            <a:hlinkClick r:id="rId38" action="ppaction://hlinksldjump"/>
          </p:cNvPr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4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44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8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5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1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63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7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48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9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9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0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1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1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2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4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4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4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56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6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1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73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1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8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58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59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99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0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1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62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2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2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3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6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5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5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6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6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8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9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5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08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1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2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21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3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3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3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4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4" name=""/>
          <p:cNvGrpSpPr/>
          <p:nvPr/>
        </p:nvGrpSpPr>
        <p:grpSpPr>
          <a:xfrm>
            <a:off x="2895480" y="3809880"/>
            <a:ext cx="4181400" cy="2233440"/>
            <a:chOff x="2895480" y="3809880"/>
            <a:chExt cx="4181400" cy="2233440"/>
          </a:xfrm>
        </p:grpSpPr>
        <p:pic>
          <p:nvPicPr>
            <p:cNvPr id="755" name="" descr=""/>
            <p:cNvPicPr/>
            <p:nvPr/>
          </p:nvPicPr>
          <p:blipFill>
            <a:blip r:embed="rId9"/>
            <a:stretch/>
          </p:blipFill>
          <p:spPr>
            <a:xfrm>
              <a:off x="3657600" y="380988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 txBox="1"/>
            <p:nvPr/>
          </p:nvSpPr>
          <p:spPr>
            <a:xfrm>
              <a:off x="2895480" y="449568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6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66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6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7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79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9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9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0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0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81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2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2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3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3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84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7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49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3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60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86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2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87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75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77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8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3" name=""/>
          <p:cNvGrpSpPr/>
          <p:nvPr/>
        </p:nvGrpSpPr>
        <p:grpSpPr>
          <a:xfrm>
            <a:off x="2971800" y="3657600"/>
            <a:ext cx="4181400" cy="2233440"/>
            <a:chOff x="2971800" y="3657600"/>
            <a:chExt cx="4181400" cy="2233440"/>
          </a:xfrm>
        </p:grpSpPr>
        <p:pic>
          <p:nvPicPr>
            <p:cNvPr id="894" name="" descr=""/>
            <p:cNvPicPr/>
            <p:nvPr/>
          </p:nvPicPr>
          <p:blipFill>
            <a:blip r:embed="rId9"/>
            <a:stretch/>
          </p:blipFill>
          <p:spPr>
            <a:xfrm>
              <a:off x="373392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 txBox="1"/>
            <p:nvPr/>
          </p:nvSpPr>
          <p:spPr>
            <a:xfrm>
              <a:off x="297180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2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0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5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07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1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1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0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3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3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35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4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4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7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5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60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62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7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4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98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7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89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4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9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002" name="j010517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1" name=""/>
          <p:cNvGrpSpPr/>
          <p:nvPr/>
        </p:nvGrpSpPr>
        <p:grpSpPr>
          <a:xfrm>
            <a:off x="0" y="5486400"/>
            <a:ext cx="1600200" cy="1219320"/>
            <a:chOff x="0" y="5486400"/>
            <a:chExt cx="1600200" cy="1219320"/>
          </a:xfrm>
        </p:grpSpPr>
        <p:pic>
          <p:nvPicPr>
            <p:cNvPr id="101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63904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 txBox="1"/>
            <p:nvPr/>
          </p:nvSpPr>
          <p:spPr>
            <a:xfrm>
              <a:off x="304920" y="571500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4" name="">
              <a:hlinkClick r:id="" action="ppaction://hlinkshowjump?jump=previousslide"/>
            </p:cNvPr>
            <p:cNvSpPr/>
            <p:nvPr/>
          </p:nvSpPr>
          <p:spPr>
            <a:xfrm>
              <a:off x="0" y="548640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16" name="Jeopardy%20Thumbnail" descr=""/>
            <p:cNvPicPr/>
            <p:nvPr/>
          </p:nvPicPr>
          <p:blipFill>
            <a:blip r:embed="rId5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036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038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33520" y="1295280"/>
            <a:ext cx="80010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olor and sound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5 – September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d macros and visual basic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rranged “back to problem” and “back to game board” buttons on answer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5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6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09-28T23:08:54Z</dcterms:modified>
  <cp:revision>179</cp:revision>
  <dc:subject/>
  <dc:title>PowerPoint Presentation</dc:title>
</cp:coreProperties>
</file>